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227D-2B5C-4319-878A-01D2CBA4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97B-736C-4E36-A37D-A51B5EAA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C882-AB63-48BB-B9C6-89705CAF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CBD-EAD8-435E-8E2F-15DDF4EF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D102-FB81-4846-A7AF-14998371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1EA3-CF28-4A22-A623-8F554FC4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EBFF-B2BF-4ED3-B639-2C5E2614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8149-7795-446B-9D2F-0A962B0F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529D-75EC-470F-8C83-44ACB0C7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5D4C-A041-4A8B-90CB-F95252C1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CB9C-2535-460E-9395-B046DFF8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EA0E-3573-4FE6-AE5F-16C422CC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7EBF-49A0-4327-9DA7-1541CC16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C87C-007A-4BC2-910E-7E95EAD6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B431-F066-424D-8F80-15D271FD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CB43-9F8D-4D93-9F65-CD5FB004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7A42-B548-4E49-8950-83D65BAF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79ED-0C26-4BFA-8A1D-B3A81CEF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B332-3903-4A8C-98EB-B4F95FB2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0744-E9D3-4B67-98FA-E15FFB13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18EF-1394-4D90-9219-A5264795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2917-2CDA-47C8-96A2-E27DE07C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80C-8F73-4923-9E3C-43DDC6AD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E6FF-A6DB-4358-BEDB-92A9DBB3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52FC-E8EB-4C30-86D7-58B4E76D3B9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CDC5-10D3-42C4-AD43-CC70138CE2F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 rot="20701800">
            <a:off x="550800" y="580680"/>
            <a:ext cx="5738760" cy="26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ffe103"/>
                    </a:gs>
                    <a:gs pos="100000">
                      <a:srgbClr val="e20c5e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hoclate Chip Cookies</a:t>
            </a:r>
            <a:endParaRPr b="0" lang="en-US" sz="1800" spc="1" strike="noStrike">
              <a:ln w="255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ffe103"/>
                  </a:gs>
                  <a:gs pos="100000">
                    <a:srgbClr val="e20c5e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4572000"/>
            <a:ext cx="25909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Kayla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onday, September 27, 20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riod7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mputer #9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43000" y="5029200"/>
            <a:ext cx="419112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usic: Free Play Music 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</a:rPr>
              <a:t>Hip-Hop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10/4/2010, 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2666880" y="2921040"/>
            <a:ext cx="20574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ventor : Ruth Wakefiel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uth Wakefield was the woman responsible for coming up with the concoction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uth  graduated from the  Framingham State Normal Arts school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fter graduated  she work as a dietitian and a food lecturer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In 1930 Ruth and her husband Kenneth purchased a Cape Cod toll house located near Boston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Her house  had originally been built in 1709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ere, passenger paid tolls, changed horse ate home made cooked meals  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uth sold her house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verter :Chocolate Chip Cook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are the only  chocolate chip  cookies you will eat . She made them with semi-sweet bar that had been given to her by Andrew Nestl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he thought that the bites would melt in the into the cookies dough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he brought them to her friends and family they were good said her sist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he was happy because her friends said they were goo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he was glad that  her friends were happy and her family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Wakefield"/>
          <p:cNvPicPr/>
          <p:nvPr/>
        </p:nvPicPr>
        <p:blipFill>
          <a:blip r:embed="rId1"/>
          <a:stretch/>
        </p:blipFill>
        <p:spPr>
          <a:xfrm rot="19637400">
            <a:off x="2666880" y="457200"/>
            <a:ext cx="3048120" cy="31240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Wakefield"/>
          <p:cNvPicPr/>
          <p:nvPr/>
        </p:nvPicPr>
        <p:blipFill>
          <a:blip r:embed="rId2"/>
          <a:srcRect l="26026" t="0" r="0" b="0"/>
          <a:stretch/>
        </p:blipFill>
        <p:spPr>
          <a:xfrm>
            <a:off x="4343400" y="4495680"/>
            <a:ext cx="4114800" cy="18288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152280" y="4248000"/>
            <a:ext cx="3657600" cy="26100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304920" y="2590920"/>
            <a:ext cx="2590560" cy="1141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5"/>
          <a:stretch/>
        </p:blipFill>
        <p:spPr>
          <a:xfrm rot="19837200">
            <a:off x="0" y="0"/>
            <a:ext cx="3429000" cy="10969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6"/>
          <a:stretch/>
        </p:blipFill>
        <p:spPr>
          <a:xfrm rot="19776600">
            <a:off x="5486400" y="2971440"/>
            <a:ext cx="1905120" cy="14018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7"/>
          <a:stretch/>
        </p:blipFill>
        <p:spPr>
          <a:xfrm>
            <a:off x="7620120" y="2514600"/>
            <a:ext cx="1307880" cy="15210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8"/>
          <a:stretch/>
        </p:blipFill>
        <p:spPr>
          <a:xfrm>
            <a:off x="3124080" y="4038480"/>
            <a:ext cx="158292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08Z</dcterms:created>
  <dc:creator>install</dc:creator>
  <dc:description/>
  <dc:language>en-US</dc:language>
  <cp:lastModifiedBy>install</cp:lastModifiedBy>
  <dcterms:modified xsi:type="dcterms:W3CDTF">2010-10-13T17:51:30Z</dcterms:modified>
  <cp:revision>11</cp:revision>
  <dc:subject/>
  <dc:title>Slide 1</dc:title>
</cp:coreProperties>
</file>